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5D6-DC21-4BEC-B58D-012EFC61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786-BDE4-4AA8-9CF2-B5FAD70C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FEF-8623-4E6A-B28E-95145F9F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0FA-4CE6-431F-9E36-9F24F47D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C47-03C1-428C-8813-DA4FF12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3F38-564C-4208-A9B0-183A7415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7E7-F382-43F4-BC1D-5F7C2C86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A18-800D-4AA0-9517-97EE508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D027-E125-4DA2-AB67-A99B06CC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10A4-CCD4-4E00-AD31-40187881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CE7-9975-4FCD-8CB0-41863A6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ED8-DF8F-4435-9D43-0CD3F7B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B41-D9D0-47C0-B9FD-03C717B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52F4-FDE3-4E78-9F0F-39B62BA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F2D-51BB-4F02-BE21-82CD23F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530-B812-461B-BB57-58172E5F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942B-CE92-488D-8397-D4C43899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4A48-E0C0-43A5-88F0-1D29A028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6932-D9A9-4ADA-B91E-49F4DB1E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BCDE-3D63-42FD-85AB-E7364D8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26A5-74BE-4F90-A6C7-34F4461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A4347-3264-475F-8FC9-C362F714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79A-077F-42B2-BF88-CB189158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F800-FBD7-4223-9AEB-C7F2D7A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A172-B0FC-487D-AAD0-E1352F93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94D8-1EB0-40D8-9ECC-86B5426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1ADA-6A91-4CB4-A11A-ED815CB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5A4A-97C5-47C9-A366-ECDD469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7A85-12F0-4D57-9722-F2F821B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F361-7D34-4D42-9B11-C97C19C8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9D8C-B594-403F-BB27-8B80AF7F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168B-1693-4E95-B7CF-D669A6A8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9EB8-DA6B-4FA4-9CC1-D43E84E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785-6353-4AEF-9450-A97BC001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962F-4694-4E92-BCF9-DB835B0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656C-A698-4CEF-9879-941CC604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C4308-22C5-4F2D-887B-D3B5FC0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131A-6ECB-49BC-B3D5-7366002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F62E-098D-48A4-A621-189229C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0482-EC6F-4B96-8D08-D6F2B05E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B775-95BE-446D-9668-E76F4D60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017F-375C-4747-8677-3E7F694E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1B3A-99C7-4794-9396-704D9AA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375B4-8C21-4171-AF49-DCD262AA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DAD-462D-4422-83AA-615BFBFE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5722-3169-431F-8A94-DB06736D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CDF3-3ABD-4FF4-BA80-8A40247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E87C-57F8-43A8-B2B6-E035957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768A-9E0A-4BEC-BC0E-A2F8E9A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B9D4-796F-4E8B-ACB9-4753185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2B4D2-193B-4CD1-8F21-E6D8399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D1D8-CCA8-4808-B3D2-0BB7D62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F83B-7342-434F-A31E-155B920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DBF9-81F3-4033-B360-6F5574D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6D19-67C1-4EAB-A52C-14070086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AB8-D8EE-47EA-8380-FD1B20D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39CC-1D3A-4E2C-9ACA-D9995632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60BD-B604-429A-8FD4-440A8119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F1D0E-E852-4444-BC4B-8361547E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B43E-5F31-4C09-93DB-26D4ADE2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C502-355F-4BC5-BD8B-E512736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F4C6-003C-4F44-819B-AA20CFF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B080-C5D8-4543-97DC-C676CB3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E274A-EE50-438B-9406-B53D32E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56D35-9443-4675-8BAA-77CF55A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9F91-8E13-48B9-9C07-1ABEB0D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D2D-2827-49BB-B082-64E9007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3FCF-0B77-4272-A19F-5252FC18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8CAD-5D08-44FE-8527-A46270E3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0C1F-6072-449C-8D03-4E3D6E58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D7D7-FB14-462F-BE36-9A0403CF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29421-05DB-42A1-AA9B-2FBE6A4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335BC-B3A7-4E78-B32B-468DB5C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41EB7-6EB8-4CF3-9E26-166E05D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3F49-45AA-4F1E-8D97-C031389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E651-092F-4125-A333-3E99697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3B35-A48A-4D3E-91B2-F5775AC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4E1-64EA-4A90-ADA0-592D1B4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233C-C820-4397-B6E8-376B8CE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C314-0298-45AB-887E-6778F2E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CDFEF-9E6B-4D88-A6D3-76BA1E8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FF46-DC7B-4A1E-B4A0-B73177CE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2C0E-A01F-46D5-AB8C-2A64C1F8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3ED2E-AF07-4DD1-8544-4EB077BE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A08D5-FC49-49F7-AAFF-D057056F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9DC7-3CFF-4CB2-B6AF-54AADC4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667C-438E-499A-9D14-B215CAF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35FA-52A3-4E3E-A085-8DD4C09F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BA5-59DB-43F5-A9B7-ADD28D5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2F3CD-2C50-4138-B9D7-6992AA8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C752B-A2A2-4BD7-8ADE-EBA8222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3BF4-3935-49ED-96DD-55AF260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F5A5-FBCA-47C6-9DAC-C4DBD8B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7C32-7E5F-4655-A448-823E76C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085F-1E1D-493C-BA95-9B9CD0D8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65A6-60F0-4E46-BFC8-D91B42A4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663-C02E-4B1F-84DD-3B0EDF0A133E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reptunghi rotunjit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reptunghi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reptunghi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reptunghi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825-6834-478D-8E53-8F51E107A789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Dreptunghi rotunjit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Dreptunghi rotunjit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Dreptunghi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reptunghi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reptunghi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A03-E897-474E-8123-B4296C2F6593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reptunghi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reptunghi rotunjit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9BD-2DED-44EE-8A16-190C00EE3A7D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reptunghi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reptunghi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reptunghi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395-F35D-4CE6-BEFB-51B41BF30AD4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DCA-DDDB-4B01-97C4-F421C52285F9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6467-9772-4FBE-B799-740311547379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reptunghi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reptunghi rotunjit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677-13A7-4441-B980-092DCC260343}" type="slidenum">
              <a:rPr b="0" lang="ro-RO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IrisUPC"/>
                <a:ea typeface="IrisUPC"/>
              </a:rPr>
              <a:t>Arte</a:t>
            </a:r>
            <a:r>
              <a:rPr b="0" lang="ro-RO" sz="26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Les télévisions en Fran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59" name="Imagine 5" descr="images.jpg"/>
          <p:cNvPicPr/>
          <p:nvPr/>
        </p:nvPicPr>
        <p:blipFill>
          <a:blip r:embed="rId1"/>
          <a:stretch/>
        </p:blipFill>
        <p:spPr>
          <a:xfrm>
            <a:off x="3809880" y="44197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360" name="Dreptunghi 8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P</a:t>
            </a:r>
            <a:r>
              <a:rPr b="0" lang="ro-RO" sz="3600" spc="-1" strike="noStrike">
                <a:solidFill>
                  <a:srgbClr val="ff6600"/>
                </a:solidFill>
                <a:latin typeface="Cooper Black"/>
              </a:rPr>
              <a:t>rogrammes de la chaîne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 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sé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jour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report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 document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’his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fil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chronique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Des </a:t>
            </a: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dessins animés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sera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 un tip de emisiune (ex: stiri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umer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toate emisiunile de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iri (sportive, meteo, culturale) pe care programul ales le prezin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ntroduce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 cateva informatii generale 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ş</a:t>
            </a: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 atractive despre tipul de emisiune prezentat mai su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Introduce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  <a:ea typeface="Arial"/>
              </a:rPr>
              <a:t>ţ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i alt tip de emisiuni difuzate (ex. seriale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La une (emisiunea cea mai interesanta de pe postul respectiv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tivati modul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 care postul tv ales v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flue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z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vi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de zi cu zi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rgument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ţ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punsul din perspectiv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î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v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ăţă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ii limbii france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9T10:51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